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D77-54A9-4553-AAA1-F11F07C1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67E-6BC9-48FA-9E65-D2AEC279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421-D83D-4F4C-8D3D-080B0EA5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77B-80A4-40BE-B400-ECD7BECD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E36-3AAA-4F0A-8D49-1EA02CF7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C7E-A5E2-4C58-B6C5-20CB8B4D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CC0-EB94-4267-AD28-4B486D4B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A48-6DBC-4DAD-AF79-471311D0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75D-938C-4BE7-8B15-62E01096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6D7-C513-4A48-8D80-6483C675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B6E-D4AD-45C6-95F1-BEC195C3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A37-D488-4F7B-8592-B4F434CE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87E0-0A64-4400-9A29-D4DAF71AF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равнительная характеристика Обломова и Мани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Мечты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752120"/>
            <a:ext cx="4040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чты о собственном благоустройстве, размышления о человечестве и искус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жаления о бесцельной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1752120"/>
            <a:ext cx="4041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предается мечтам, бесплодным и фантастическим, которые никогда не сможет осуществить, так как всякий труд, любая деятельность ему чуж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чтает о том, как хорошо бы построить через пруд каменный мост или от дома повести подземный 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щий 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а помещики, оба не любят заниматься хозяйством, вести приходные книги, у обоих родовые имения находятся в запустении (деревни Маниловка и Обломов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обоих героев - «отсутствие всякой определенной идеи, всякой сосредоточен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голь характеризует Манилова как отрицательного персонажа: «мёртвая душа», за «сладостью» скрывается безразличие и даже жесто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мов в изображении Гончарова не мнимо (как Манилов), а действительно приятный, и действительно добрый, мягкий, откровенный и сердечный человек. И он вызывает в окружающих людях совсем иные (чем Манилов) чув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щие 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мов,  несомненно,  и   гораздо   умнее Манилова, и совершенно лишен той  восторженности  и  слащавости,  которые  в Манилове преобладаю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начением Обломова станет смерть. Вечный покой, вечная тишина и ленивое «переползанье» изо дня в день тихо остановили машину его жиз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выражение Белинского, можно сказать, что Манилов- «старший брат» Обломова, в котором эта помещичья лень достигла крайней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litra.ru/composition/get/coid/00277031253376808705/woid/0001260118477306965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litra.ru/characters/get/chid/0070853119081780485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tvet.mail.ru/question/48911591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tvet.mail.ru/question/47631457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blomov.omsk.edu/koi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. В. Гоголь «Мёртвые душ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. А. Гончаров «Облом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ь характер Манилова («Мертвые души» Гоголь) и характер Обломова («Обломов» Гончар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сходства в характерах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различия в характерах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нешность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9810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т 32-33 от р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го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ятной на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тёмно-серыми глаз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с отсутствием всякой определённой идеи, всякой сосредоточенности в чертах 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вет лица «безразлич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ты лица – прият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ок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голубыми глаз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ладость» в лице и глаз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6" descr="im16.jpg"/>
          <p:cNvPicPr/>
          <p:nvPr/>
        </p:nvPicPr>
        <p:blipFill>
          <a:blip r:embed="rId1"/>
          <a:stretch/>
        </p:blipFill>
        <p:spPr>
          <a:xfrm>
            <a:off x="990720" y="762120"/>
            <a:ext cx="3504960" cy="47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Рисунок 7" descr="3288_original.gif"/>
          <p:cNvPicPr/>
          <p:nvPr/>
        </p:nvPicPr>
        <p:blipFill>
          <a:blip r:embed="rId2"/>
          <a:stretch/>
        </p:blipFill>
        <p:spPr>
          <a:xfrm>
            <a:off x="4724280" y="1523880"/>
            <a:ext cx="381168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TextBox 8"/>
          <p:cNvSpPr/>
          <p:nvPr/>
        </p:nvSpPr>
        <p:spPr>
          <a:xfrm>
            <a:off x="20574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09588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Характер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828440"/>
            <a:ext cx="40402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нив, любит «поваляться» и посп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сервативен во вкусах и взгляд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чтат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занимается хозяйств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вное для него – покой, не терпит суе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любит заниматься дел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желюбен с друзья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призен, может вспыли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1828440"/>
            <a:ext cx="4041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 «ни то, ни сё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желюбен «до тошнот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От него не дождешься никакого живого слов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ного думает, мало говори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зяйство идет «само собо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коен, умиротворен, мяг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Сахарное» удовольств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о всех хорошего мнения, всем старается угоди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анимаемая долж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76520"/>
            <a:ext cx="4040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орянин родом, коллежский секретарь чином, безвыездно живет двенадцатый год в Петербург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Гороховой улице, в одном из больших дом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наследству досталась деревн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990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ещ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нат, двое детей (жена – под стать муж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ет в 16 верстах от уездного горо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еревне Манилов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личие слуг у героев и ведение хозяй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057040"/>
            <a:ext cx="4040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га З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евня ( всем заправляет староста, хозяин ничего не знает о доходах и расход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7960" y="2057040"/>
            <a:ext cx="4041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Хозяйство идет само собой»: помещик не знает о судьбе своих крестьян (приказч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крестьяне живут в нищете, в доме царит беспоряд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рузья и светская жизнь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76160"/>
            <a:ext cx="4040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ков, Судьбинский, Пенкин; Алексеев Иван Алексеевич, Михей Андреевич Тарантьев, Андрей Иванович Штольц («человек действия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любит выезжать из дома, «не подъём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9140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4720" y="1676160"/>
            <a:ext cx="4041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новники уездного города, помещики (Ноздрев, Собакевич и т. 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почитает домашний уют, но не против поехать в город, в г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наговаривает на друз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Admin</cp:lastModifiedBy>
  <dcterms:modified xsi:type="dcterms:W3CDTF">2013-05-07T14:45:05Z</dcterms:modified>
  <cp:revision>12</cp:revision>
  <dc:subject/>
  <dc:title>Название презентации</dc:title>
</cp:coreProperties>
</file>